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11.gif" ContentType="image/gif"/>
  <Override PartName="/ppt/media/image28.jpeg" ContentType="image/jpeg"/>
  <Override PartName="/ppt/media/image20.png" ContentType="image/png"/>
  <Override PartName="/ppt/media/image7.jpeg" ContentType="image/jpeg"/>
  <Override PartName="/ppt/media/image8.jpeg" ContentType="image/jpeg"/>
  <Override PartName="/ppt/media/image29.jpeg" ContentType="image/jpeg"/>
  <Override PartName="/ppt/media/image21.gif" ContentType="image/gif"/>
  <Override PartName="/ppt/media/image14.png" ContentType="image/png"/>
  <Override PartName="/ppt/media/image1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.jpeg" ContentType="image/jpeg"/>
  <Override PartName="/ppt/media/chimes.wav" ContentType="audio/x-wav"/>
  <Override PartName="/ppt/media/image16.png" ContentType="image/png"/>
  <Override PartName="/ppt/media/image13.png" ContentType="image/png"/>
  <Override PartName="/ppt/media/image32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2D8E-8F22-4480-B933-4E3928978AAF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术中温热盐水纱布压迫止血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酶复合物的形成可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活化过程分为两条途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瀑布学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内源性：参与凝血的因子全部来自于血液。常因血液与带负电荷的异物表面接触而启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外源性：由来自于血液之外的组织因子暴露于血液而启动的凝血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组织因子是一种跨膜糖蛋白，存在于大多数组织细胞。生理情况下，直接与循环血液接触的血细胞和内皮细胞不表达组织因子，血管损伤时，暴露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Ⅱ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Ⅰ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先转变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纤维蛋白单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后聚合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不溶性的纤维蛋白多聚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中可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变成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体，把血细胞及其他成分网罗在内，从而形成血凝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凝血的启动阶段，只有少量的凝血酶产生，这部分凝血酶又可以反过去激活其他凝血因子，产生大量凝血酶，维持凝血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通过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结合而使之灭活。在正常安静情况下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-Ca2+-FⅦa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凝血酶原酶复合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组织因子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氨基酸残基组成的跨膜糖蛋白，血管外层的平滑肌细胞、成纤维细胞、足突状细胞恒定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随时准备血管破裂以后的止血。而血管内与血浆直接接触的血管内皮细胞、单核细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外伤、大手术、产科意外、恶性肿瘤或实质脏器坏死等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◆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血管内皮细胞、单核细胞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MN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被炎症介质活化产生和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缺乏、异常症属常染色体显性遗传，包括数量缺乏和结构异常。临床上多发生深部静脉血栓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属于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丝氨酸蛋白酶，最敏感的底物是纤维蛋白和纤维蛋白原，可使其分解为许多可溶性小肽，称为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通常不再发生凝固，而且还具有抗凝血作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是血浆中活性最强的蛋白酶，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特异性较低，除降解纤维蛋白和纤维蛋白原外，还对凝血因子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等有降解作用。因此，当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亢进时，可因凝血因子的大量分解和</a:t>
            </a:r>
            <a:r>
              <a:rPr b="0" lang="en-US" sz="1400" spc="-1" strike="noStrike">
                <a:solidFill>
                  <a:srgbClr val="3333cc"/>
                </a:solidFill>
                <a:latin typeface="黑体"/>
                <a:ea typeface="黑体"/>
              </a:rPr>
              <a:t>FDP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的抗凝作用而有出血倾向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最终被单核巨噬细胞系统吞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DIC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概念分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致病因子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广泛微血栓形成，继发纤溶亢进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大临床表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不是独立的疾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主要特征：凝血功能异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   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中心环节：大量凝血酶产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席汉氏综合症，是由一百多年前席汉氏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eha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发现的一种综合症，当产后发生大出血，休克时间过长，就可造成脑垂体前叶功能减退的后遗症，表现为消溲，乏力，脱发，畏寒，闭经，乳房萎缩等，严重者可致死。临床上称之为席汉氏综合症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暴发型脑膜炎球菌败血症累及肾上腺，引起肾上腺皮质出血性坏死和急性肾上腺皮质功能衰竭，可有明显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Times New Roman"/>
              </a:rPr>
              <a:t>休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症状和皮肤大片瘀斑等体征，称为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弗氏综合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aterhouse-Friderichsen Syndrome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急性早幼粒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ute promyelocytic leukemia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是急性髓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的一种特殊类型，被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B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协作组定为急性髓细胞白血病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3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型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造血组织的恶性疾病。其特点是骨髓及其他造血组织中有大量白血病细胞无限制地增生，并进入外周血液，而正常血细胞的制造被明显抑制，该病居年轻人恶性疾病中的首位，病因至今仍不完全清楚，病毒可能是主要的致病因子，但还有许多因素如放射、化学毒物（苯等）或药物、遗传素质等可能是致病的辅因子。根据白血病细胞不成熟的程度和白血病的自然病程，分为急性和慢性两大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发病急，骨髓和外周血中主要是原始细胞，若不治疗病人常于半年内死亡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特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早幼粒细胞浆内充满异常颗粒；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常伴有出血倾向发生率达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2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4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，严重者出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患者出现特异性染色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2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1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改变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④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对化疗敏感，但早期死亡率高，尤其在甲细胞毒细胞药物化疗时，约有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患者死于时期出血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⑤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酸能诱导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分化成熟，砷剂能诱导其凋亡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⑥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持续缓解时间较长。以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治疗效果很差预后凶险，多因并发性弥散性血管内凝血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或原发性纤维蛋白溶解导致严重出血，而早期死亡。近年来随着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生物学的特性认识的不断提高和治疗方法改进，使治疗结果和预后得到了很大的改善，早期死亡率明显下降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见于长期大量应用糖皮质激素、反复感染或严重肝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0B88-1E2B-437D-83F3-FA2F47D9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BEBC-C177-423B-BBB5-716EB934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41D-5A58-4BF4-A283-C910B243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79E-2AB7-4B6B-9A0C-29302951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1CF9-2DC4-4A0C-89D5-335DD0EF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E6E4-BC8F-4D3F-A95D-21EC5F75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90F7-39FD-42A6-81A2-BB99CACC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EBC0-4A1E-4A7F-B45B-F9893926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D57-E307-4423-AD55-60C693D0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EBA1-337E-4660-8C88-E4C4469C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FE7F-C675-45F7-B785-0DA107D2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D94B-C64B-4C5D-9BCE-F89B0219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4E7E-85DF-41EF-88CF-CB8FBEC82CDA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2B6C-784F-4C82-A836-70BF0E5F8CB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uaiyunqi.jbaobao.com/200706/396.s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07920"/>
            <a:ext cx="8605800" cy="52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八章 弥散性血管内凝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seminated Intravascular Coagulatio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河北联合大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病理生理学教研室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赵利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1EA2-A7F4-4C76-8FE0-69EE07EA324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0"/>
            <a:ext cx="1763640" cy="335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549360"/>
            <a:ext cx="50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血液的高凝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628640"/>
            <a:ext cx="244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妊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220500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和凝血因子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胎盘产生纤溶酶原激活物抑制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妊娠并发症的血流动力学异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4149720"/>
            <a:ext cx="33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酸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4581360"/>
            <a:ext cx="54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管内皮损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活性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肝素的抗凝作用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聚集性加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0E28-8E0F-425E-AA38-5594667B4923}" type="slidenum">
              <a:t>10</a:t>
            </a:fld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8713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休克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（尤其是感染性休克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血流缓慢或停滞，血细胞聚集性增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毛细血管通透性增大，血浆外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组织细胞、血管内皮细胞缺氧性损伤，凝血易启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肝、肾低灌流状态使促凝物质清除障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血小板和凝血因子活性增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384360" cy="2443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640" y="54936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FD58-6AE2-4E2C-AD7E-5E3AC25A5D1D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473440" cy="8971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四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发病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ShockwaveFlash1"/>
          <p:cNvGraphicFramePr/>
          <p:nvPr/>
        </p:nvGraphicFramePr>
        <p:xfrm>
          <a:off x="1042920" y="1700280"/>
          <a:ext cx="754236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542360" cy="4190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63640" y="6021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凝血和抗凝血平衡破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8C13-23A5-4B93-A05B-9175E9070653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763560" y="228600"/>
            <a:ext cx="7999560" cy="6327000"/>
            <a:chOff x="763560" y="228600"/>
            <a:chExt cx="7999560" cy="6327000"/>
          </a:xfrm>
        </p:grpSpPr>
        <p:grpSp>
          <p:nvGrpSpPr>
            <p:cNvPr id="91" name=""/>
            <p:cNvGrpSpPr/>
            <p:nvPr/>
          </p:nvGrpSpPr>
          <p:grpSpPr>
            <a:xfrm>
              <a:off x="763560" y="228600"/>
              <a:ext cx="7389360" cy="6327000"/>
              <a:chOff x="763560" y="228600"/>
              <a:chExt cx="7389360" cy="63270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133360" y="3646440"/>
                <a:ext cx="685440" cy="685800"/>
                <a:chOff x="2133360" y="3646440"/>
                <a:chExt cx="685440" cy="685800"/>
              </a:xfrm>
            </p:grpSpPr>
            <p:pic>
              <p:nvPicPr>
                <p:cNvPr id="9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33360" y="36464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>
                  <a:off x="2263320" y="372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895480" y="3646440"/>
                <a:ext cx="2361240" cy="1083960"/>
                <a:chOff x="2895480" y="3646440"/>
                <a:chExt cx="2361240" cy="108396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2895480" y="3875040"/>
                  <a:ext cx="1447200" cy="855360"/>
                  <a:chOff x="2895480" y="3875040"/>
                  <a:chExt cx="1447200" cy="855360"/>
                </a:xfrm>
              </p:grpSpPr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7504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" name=""/>
                  <p:cNvSpPr/>
                  <p:nvPr/>
                </p:nvSpPr>
                <p:spPr>
                  <a:xfrm>
                    <a:off x="3276000" y="407808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3961800" y="4103640"/>
                  <a:ext cx="1294920" cy="533160"/>
                  <a:chOff x="3961800" y="4103640"/>
                  <a:chExt cx="1294920" cy="533160"/>
                </a:xfrm>
              </p:grpSpPr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1800" y="4103640"/>
                    <a:ext cx="12949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" name=""/>
                  <p:cNvSpPr/>
                  <p:nvPr/>
                </p:nvSpPr>
                <p:spPr>
                  <a:xfrm>
                    <a:off x="4344120" y="410364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3885480" y="3646440"/>
                  <a:ext cx="685440" cy="685800"/>
                  <a:chOff x="3885480" y="3646440"/>
                  <a:chExt cx="685440" cy="685800"/>
                </a:xfrm>
              </p:grpSpPr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5480" y="364644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" name=""/>
                  <p:cNvSpPr/>
                  <p:nvPr/>
                </p:nvSpPr>
                <p:spPr>
                  <a:xfrm>
                    <a:off x="3963240" y="372276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6248160" y="4027320"/>
                <a:ext cx="1294920" cy="536040"/>
                <a:chOff x="6248160" y="4027320"/>
                <a:chExt cx="1294920" cy="536040"/>
              </a:xfrm>
            </p:grpSpPr>
            <p:pic>
              <p:nvPicPr>
                <p:cNvPr id="10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248160" y="4027320"/>
                  <a:ext cx="129492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>
                  <a:off x="6706800" y="41036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038480" y="4941720"/>
                <a:ext cx="1336320" cy="868320"/>
                <a:chOff x="4038480" y="4941720"/>
                <a:chExt cx="1336320" cy="868320"/>
              </a:xfrm>
            </p:grpSpPr>
            <p:pic>
              <p:nvPicPr>
                <p:cNvPr id="10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38480" y="4941720"/>
                  <a:ext cx="133632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>
                  <a:off x="4115880" y="5167080"/>
                  <a:ext cx="118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63560" y="4941720"/>
                <a:ext cx="1463760" cy="925560"/>
                <a:chOff x="763560" y="4941720"/>
                <a:chExt cx="1463760" cy="925560"/>
              </a:xfrm>
            </p:grpSpPr>
            <p:pic>
              <p:nvPicPr>
                <p:cNvPr id="11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9400" y="4941720"/>
                  <a:ext cx="1402920" cy="92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763560" y="5219640"/>
                  <a:ext cx="1463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676160" y="6073560"/>
                <a:ext cx="1904760" cy="482040"/>
                <a:chOff x="1676160" y="6073560"/>
                <a:chExt cx="1904760" cy="482040"/>
              </a:xfrm>
            </p:grpSpPr>
            <p:pic>
              <p:nvPicPr>
                <p:cNvPr id="11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7616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>
                  <a:off x="1907640" y="6095880"/>
                  <a:ext cx="1520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oge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714640" y="6073560"/>
                <a:ext cx="1904760" cy="482040"/>
                <a:chOff x="5714640" y="6073560"/>
                <a:chExt cx="1904760" cy="482040"/>
              </a:xfrm>
            </p:grpSpPr>
            <p:pic>
              <p:nvPicPr>
                <p:cNvPr id="11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71464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6248160" y="6095880"/>
                  <a:ext cx="92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2895480" y="3570120"/>
                <a:ext cx="914040" cy="228600"/>
              </a:xfrm>
              <a:custGeom>
                <a:avLst/>
                <a:gdLst/>
                <a:ahLst/>
                <a:rect l="l" t="t" r="r" b="b"/>
                <a:pathLst>
                  <a:path w="768" h="248">
                    <a:moveTo>
                      <a:pt x="0" y="248"/>
                    </a:moveTo>
                    <a:cubicBezTo>
                      <a:pt x="80" y="132"/>
                      <a:pt x="160" y="16"/>
                      <a:pt x="288" y="8"/>
                    </a:cubicBezTo>
                    <a:cubicBezTo>
                      <a:pt x="416" y="0"/>
                      <a:pt x="704" y="176"/>
                      <a:pt x="768" y="2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333400" y="433224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8280" y="5398920"/>
                <a:ext cx="137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71440" y="4865400"/>
                <a:ext cx="304560" cy="457200"/>
              </a:xfrm>
              <a:custGeom>
                <a:avLst/>
                <a:gdLst/>
                <a:ahLst/>
                <a:rect l="l" t="t" r="r" b="b"/>
                <a:pathLst>
                  <a:path w="168" h="384">
                    <a:moveTo>
                      <a:pt x="168" y="0"/>
                    </a:moveTo>
                    <a:cubicBezTo>
                      <a:pt x="108" y="64"/>
                      <a:pt x="48" y="128"/>
                      <a:pt x="24" y="192"/>
                    </a:cubicBezTo>
                    <a:cubicBezTo>
                      <a:pt x="0" y="256"/>
                      <a:pt x="12" y="320"/>
                      <a:pt x="24" y="38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09880" y="6302160"/>
                <a:ext cx="159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7960" y="5823000"/>
                <a:ext cx="0" cy="40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9880" y="2225520"/>
                <a:ext cx="2361240" cy="1083960"/>
                <a:chOff x="3809880" y="2225520"/>
                <a:chExt cx="2361240" cy="108396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809880" y="2454120"/>
                  <a:ext cx="1447200" cy="855360"/>
                  <a:chOff x="3809880" y="2454120"/>
                  <a:chExt cx="1447200" cy="855360"/>
                </a:xfrm>
              </p:grpSpPr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245412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" name=""/>
                  <p:cNvSpPr/>
                  <p:nvPr/>
                </p:nvSpPr>
                <p:spPr>
                  <a:xfrm>
                    <a:off x="4190400" y="265716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4800240" y="2225520"/>
                  <a:ext cx="685440" cy="685800"/>
                  <a:chOff x="4800240" y="2225520"/>
                  <a:chExt cx="685440" cy="685800"/>
                </a:xfrm>
              </p:grpSpPr>
              <p:pic>
                <p:nvPicPr>
                  <p:cNvPr id="1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240" y="222552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2" name=""/>
                  <p:cNvSpPr/>
                  <p:nvPr/>
                </p:nvSpPr>
                <p:spPr>
                  <a:xfrm>
                    <a:off x="4801680" y="2301480"/>
                    <a:ext cx="637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876560" y="2682720"/>
                  <a:ext cx="1294560" cy="533160"/>
                  <a:chOff x="4876560" y="2682720"/>
                  <a:chExt cx="1294560" cy="533160"/>
                </a:xfrm>
              </p:grpSpPr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560" y="2682720"/>
                    <a:ext cx="12945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" name=""/>
                  <p:cNvSpPr/>
                  <p:nvPr/>
                </p:nvSpPr>
                <p:spPr>
                  <a:xfrm>
                    <a:off x="5105520" y="2682720"/>
                    <a:ext cx="842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I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6857640" y="2700360"/>
                <a:ext cx="1295280" cy="533160"/>
                <a:chOff x="6857640" y="2700360"/>
                <a:chExt cx="1295280" cy="533160"/>
              </a:xfrm>
            </p:grpSpPr>
            <p:pic>
              <p:nvPicPr>
                <p:cNvPr id="1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857640" y="2700360"/>
                  <a:ext cx="1295280" cy="53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>
                  <a:off x="7087320" y="2700360"/>
                  <a:ext cx="842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I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 flipH="1">
                <a:off x="6247800" y="29289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6324480" y="1633320"/>
                <a:ext cx="685440" cy="685800"/>
                <a:chOff x="6324480" y="1633320"/>
                <a:chExt cx="685440" cy="685800"/>
              </a:xfrm>
            </p:grpSpPr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324480" y="163332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6429240" y="178560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H="1">
                <a:off x="5562360" y="2166840"/>
                <a:ext cx="68544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486040" y="1023840"/>
                <a:ext cx="685440" cy="685800"/>
                <a:chOff x="5486040" y="1023840"/>
                <a:chExt cx="685440" cy="685800"/>
              </a:xfrm>
            </p:grpSpPr>
            <p:pic>
              <p:nvPicPr>
                <p:cNvPr id="14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486040" y="10238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"/>
                <p:cNvSpPr/>
                <p:nvPr/>
              </p:nvSpPr>
              <p:spPr>
                <a:xfrm>
                  <a:off x="5531400" y="1176120"/>
                  <a:ext cx="637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5943240" y="1785960"/>
                <a:ext cx="15228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20147400">
                <a:off x="3301200" y="3111480"/>
                <a:ext cx="521640" cy="3394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361960" y="304560"/>
                <a:ext cx="685440" cy="685800"/>
                <a:chOff x="2361960" y="304560"/>
                <a:chExt cx="685440" cy="68580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36196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2407320" y="456840"/>
                  <a:ext cx="604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420440" y="304560"/>
                <a:ext cx="741240" cy="685800"/>
                <a:chOff x="4420440" y="304560"/>
                <a:chExt cx="741240" cy="68580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47624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4420440" y="456840"/>
                  <a:ext cx="74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657240" y="1066680"/>
                <a:ext cx="685440" cy="685800"/>
                <a:chOff x="3657240" y="1066680"/>
                <a:chExt cx="685440" cy="685800"/>
              </a:xfrm>
            </p:grpSpPr>
            <p:pic>
              <p:nvPicPr>
                <p:cNvPr id="15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657240" y="106668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>
                  <a:off x="3761640" y="121896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419360" y="144756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00240" y="1066680"/>
                <a:ext cx="0" cy="32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00040" y="685800"/>
                <a:ext cx="114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24080" y="228600"/>
                <a:ext cx="114264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"/>
            <p:cNvSpPr/>
            <p:nvPr/>
          </p:nvSpPr>
          <p:spPr>
            <a:xfrm>
              <a:off x="8229600" y="152388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内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2280" y="1676520"/>
            <a:ext cx="5943600" cy="3080160"/>
            <a:chOff x="152280" y="1676520"/>
            <a:chExt cx="5943600" cy="3080160"/>
          </a:xfrm>
        </p:grpSpPr>
        <p:grpSp>
          <p:nvGrpSpPr>
            <p:cNvPr id="164" name=""/>
            <p:cNvGrpSpPr/>
            <p:nvPr/>
          </p:nvGrpSpPr>
          <p:grpSpPr>
            <a:xfrm>
              <a:off x="838080" y="1981080"/>
              <a:ext cx="5257800" cy="1787400"/>
              <a:chOff x="838080" y="1981080"/>
              <a:chExt cx="5257800" cy="17874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838080" y="2546280"/>
                <a:ext cx="1523880" cy="1222200"/>
                <a:chOff x="838080" y="2546280"/>
                <a:chExt cx="1523880" cy="12222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838080" y="2546280"/>
                  <a:ext cx="1222200" cy="1222200"/>
                  <a:chOff x="838080" y="2546280"/>
                  <a:chExt cx="1222200" cy="1222200"/>
                </a:xfrm>
              </p:grpSpPr>
              <p:pic>
                <p:nvPicPr>
                  <p:cNvPr id="1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38080" y="2546280"/>
                    <a:ext cx="12222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" name=""/>
                  <p:cNvSpPr/>
                  <p:nvPr/>
                </p:nvSpPr>
                <p:spPr>
                  <a:xfrm>
                    <a:off x="1110960" y="2850840"/>
                    <a:ext cx="717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F</a:t>
                    </a:r>
                    <a:endParaRPr b="0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1676160" y="3079440"/>
                  <a:ext cx="685800" cy="685440"/>
                  <a:chOff x="1676160" y="3079440"/>
                  <a:chExt cx="685800" cy="685440"/>
                </a:xfrm>
              </p:grpSpPr>
              <p:pic>
                <p:nvPicPr>
                  <p:cNvPr id="17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676160" y="3079440"/>
                    <a:ext cx="685800" cy="68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" name=""/>
                  <p:cNvSpPr/>
                  <p:nvPr/>
                </p:nvSpPr>
                <p:spPr>
                  <a:xfrm>
                    <a:off x="1676160" y="3222000"/>
                    <a:ext cx="685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2" name=""/>
              <p:cNvSpPr/>
              <p:nvPr/>
            </p:nvSpPr>
            <p:spPr>
              <a:xfrm>
                <a:off x="2438280" y="3308400"/>
                <a:ext cx="914400" cy="3808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57400" y="1981080"/>
                <a:ext cx="4038480" cy="892080"/>
              </a:xfrm>
              <a:custGeom>
                <a:avLst/>
                <a:gdLst/>
                <a:ahLst/>
                <a:rect l="l" t="t" r="r" b="b"/>
                <a:pathLst>
                  <a:path w="2640" h="640">
                    <a:moveTo>
                      <a:pt x="0" y="640"/>
                    </a:moveTo>
                    <a:cubicBezTo>
                      <a:pt x="764" y="384"/>
                      <a:pt x="1528" y="128"/>
                      <a:pt x="1968" y="64"/>
                    </a:cubicBezTo>
                    <a:cubicBezTo>
                      <a:pt x="2408" y="0"/>
                      <a:pt x="2524" y="128"/>
                      <a:pt x="2640" y="25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52280" y="167652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外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651840" y="436572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32560" y="364500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88560" y="299736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AB95-CC4E-4859-AE6B-DE87F74D3BBC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凝血的三个阶段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酶复合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FⅩa-FⅤa-Ca</a:t>
            </a:r>
            <a:r>
              <a:rPr b="1" lang="en-US" sz="3200" spc="-1" strike="noStrike" u="sng" baseline="18000">
                <a:solidFill>
                  <a:srgbClr val="ffff00"/>
                </a:solidFill>
                <a:uFillTx/>
                <a:latin typeface="宋体"/>
              </a:rPr>
              <a:t>2+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-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</a:rPr>
              <a:t>磷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原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256536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3645000"/>
            <a:ext cx="228600" cy="753840"/>
          </a:xfrm>
          <a:prstGeom prst="downArrow">
            <a:avLst>
              <a:gd name="adj1" fmla="val 50000"/>
              <a:gd name="adj2" fmla="val 8244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3213000"/>
            <a:ext cx="1225440" cy="144720"/>
          </a:xfrm>
          <a:prstGeom prst="rightArrow">
            <a:avLst>
              <a:gd name="adj1" fmla="val 50000"/>
              <a:gd name="adj2" fmla="val 21169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450864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1920" y="5734080"/>
            <a:ext cx="3192120" cy="825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瀑布式的酶促反应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65A-75C9-411B-8F70-53A8EC619290}" type="slidenum">
              <a:t>14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021040"/>
            <a:ext cx="914400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基底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胶原暴露，启动内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损伤的血管内皮细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启动外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暴露的胶原促进血小板黏附、聚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④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使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M/P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HS/A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-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抗凝作用减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⑤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减少，纤溶活性降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907920"/>
            <a:ext cx="8461080" cy="5875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管内皮细胞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047-6CAF-49FD-9EE8-8491048B1337}" type="slidenum">
              <a:t>15</a:t>
            </a:fld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55640" y="1916280"/>
            <a:ext cx="8028000" cy="1854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损伤组织细胞释放大量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活化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单核细胞及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MN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49360"/>
            <a:ext cx="7704000" cy="64260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严重组织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4941720"/>
            <a:ext cx="3671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外凝系统启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378936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898E-93F0-4481-A595-6614B52A9D34}" type="slidenum">
              <a:t>16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000" y="1773360"/>
            <a:ext cx="7343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抗凝血酶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如：败血症时</a:t>
            </a:r>
            <a:r>
              <a:rPr b="1" lang="en-US" sz="3600" spc="-1" strike="noStrike">
                <a:solidFill>
                  <a:srgbClr val="00ff00"/>
                </a:solidFill>
                <a:latin typeface="宋体"/>
              </a:rPr>
              <a:t>AT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-Ⅲ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明显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和凝血酶被消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被活化中性粒细胞释放的弹性酶降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合成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506520"/>
            <a:ext cx="504036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抗凝系统功能抑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BC4E-707C-4013-88F0-B416AA9B9FA0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20720" y="4048920"/>
            <a:ext cx="4923000" cy="1285200"/>
          </a:xfrm>
          <a:prstGeom prst="cube">
            <a:avLst>
              <a:gd name="adj" fmla="val 6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血管内皮细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4292640"/>
            <a:ext cx="1657440" cy="504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血栓调节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系统抑制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9080" y="155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激活的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P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198900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00360" y="2421000"/>
            <a:ext cx="2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20720" y="2179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2708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灭活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Ⅴa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Ⅷ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3440" y="2997360"/>
            <a:ext cx="100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064120" y="306828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1800" y="378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60720" y="321300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944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33800" y="3139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2200" y="42210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栓调节蛋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63640" y="4149720"/>
            <a:ext cx="241632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3716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3716280"/>
            <a:ext cx="158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B11A-C18F-48CF-A0EE-C5E152D62568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1148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765000"/>
            <a:ext cx="8137440" cy="752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血管舒缩性和血液流动性的改变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844640"/>
            <a:ext cx="8591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能合成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PG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O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等扩血管物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可产生缩血管物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皮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过调节血管的舒缩功能，保持血液正常流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4292640"/>
            <a:ext cx="3816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发病及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触发因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5229360"/>
            <a:ext cx="655164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血管舒缩调节功能紊乱，血液黏度增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6093000"/>
            <a:ext cx="2160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微血栓形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479736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5661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0286-6D6C-4CB0-8C5A-50F74C8E23E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1268280"/>
            <a:ext cx="792000" cy="382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822240"/>
            <a:ext cx="3600360" cy="52146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原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诱发因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临床表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分期与分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B621-2DC7-4A90-808C-3E44FF0B0B7E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692280"/>
            <a:ext cx="4608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继发性纤溶激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773360"/>
            <a:ext cx="8280360" cy="19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纤溶系统继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凝血激活之后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激活，且纤溶活性呈进行性增强的状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4724280"/>
            <a:ext cx="5472000" cy="936720"/>
          </a:xfrm>
          <a:prstGeom prst="wedgeRoundRectCallout">
            <a:avLst>
              <a:gd name="adj1" fmla="val -44981"/>
              <a:gd name="adj2" fmla="val -15864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继发性纤溶亢进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2641-EF1C-4E5A-9659-57989016F672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4149360"/>
            <a:ext cx="4643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激活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     纤溶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763640" y="4653000"/>
            <a:ext cx="990720" cy="1008000"/>
            <a:chOff x="1763640" y="4653000"/>
            <a:chExt cx="990720" cy="1008000"/>
          </a:xfrm>
        </p:grpSpPr>
        <p:sp>
          <p:nvSpPr>
            <p:cNvPr id="225" name=""/>
            <p:cNvSpPr/>
            <p:nvPr/>
          </p:nvSpPr>
          <p:spPr>
            <a:xfrm>
              <a:off x="1763640" y="5661000"/>
              <a:ext cx="9907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66920" y="4653000"/>
              <a:ext cx="0" cy="792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620640"/>
            <a:ext cx="8496000" cy="20131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凝血酶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a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I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可激活纤溶酶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纤维蛋白、缓激肽等促进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分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-P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组织（卵巢、子宫、肾上腺）中的纤溶酶原因缺氧性损伤而激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11280" y="5300640"/>
            <a:ext cx="172908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67280" y="3645000"/>
            <a:ext cx="4897440" cy="274428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纤溶酶作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溶解微血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多种凝血因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纤维蛋白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生成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88F1-6939-44BF-89F4-7B28D0BE0BAC}" type="slidenum">
              <a:t>21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9640" y="234936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1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284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6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300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8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4292640"/>
            <a:ext cx="835344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肿瘤坏死因子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mor necrosis factor, TNF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836640"/>
            <a:ext cx="4608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细胞因子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B1F4-8D85-4F3C-8CEF-FA5F311715C3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4681440" cy="8967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五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临床表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060640"/>
            <a:ext cx="30956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出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1773360"/>
            <a:ext cx="1873440" cy="3272760"/>
          </a:xfrm>
          <a:prstGeom prst="rect">
            <a:avLst/>
          </a:prstGeom>
          <a:solidFill>
            <a:srgbClr val="ff99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最常见最早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突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多部位难止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20160" y="3213000"/>
            <a:ext cx="10951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61BD-29AC-4B81-80FA-7E9C202ABAC6}" type="slidenum">
              <a:t>2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0" y="1341360"/>
            <a:ext cx="403236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表现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皮下淤斑、呕血、黑便、 咯血、牙龈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鼻出血、泌尿生殖道出血、颅内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射部位渗血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20228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0FC-D35B-41B8-8D25-EE4E8B0F6BDE}" type="slidenum">
              <a:t>24</a:t>
            </a:fld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021200" y="3211560"/>
            <a:ext cx="5122800" cy="3646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95280" y="470520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148360" y="476280"/>
            <a:ext cx="3995640" cy="2809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79280" y="0"/>
            <a:ext cx="3492720" cy="2421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3276720" y="1557360"/>
            <a:ext cx="1908000" cy="16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2CC1-AE8D-4C2B-9E6B-825E0FA08682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95280" y="1700280"/>
            <a:ext cx="727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1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凝血因子及血小板数量减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04640"/>
            <a:ext cx="44640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出血的机制：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3716280"/>
            <a:ext cx="7993080" cy="206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激活激肽系统，进而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缺氧、应激促进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-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凝血酶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637000"/>
            <a:ext cx="504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2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继发性纤溶亢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94E-90B5-4F7F-A2DA-B96AC188AFEB}" type="slidenum">
              <a:t>26</a:t>
            </a:fld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1052640"/>
            <a:ext cx="853416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A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凝血酶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’ Y’ D’ 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聚体、多聚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19280" y="2981160"/>
            <a:ext cx="1752480" cy="1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33880" y="2981160"/>
            <a:ext cx="53352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53200" y="2981160"/>
            <a:ext cx="76176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5877000"/>
            <a:ext cx="129564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924360" y="5877000"/>
            <a:ext cx="158436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57560" y="2355480"/>
            <a:ext cx="533520" cy="3920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53200" y="3294000"/>
            <a:ext cx="914400" cy="235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05080" y="2981160"/>
            <a:ext cx="228600" cy="392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404640"/>
            <a:ext cx="8137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3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纤维蛋白（原）降解产物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1CB5-6193-4AB2-ADE8-52AEA041158B}" type="slidenum">
              <a:t>27</a:t>
            </a:fld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304920"/>
            <a:ext cx="868680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纤维蛋白（原）降解产物（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：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纤溶酶的作用下，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纤维蛋白原和纤维蛋白被水解成分子量不等的片段，这些片段以单体、二聚体和多聚体的形式存在于血液中，统称为</a:t>
            </a: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54F4-C614-4BF0-AE60-8BDB7D26519D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03280" y="620640"/>
            <a:ext cx="705636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FDP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的作用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血小板黏附、聚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凝血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纤维蛋白单体聚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増强微血管壁通透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08240" y="5589720"/>
            <a:ext cx="22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三抗一加强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9388-AACC-4FB2-9DD9-36A4E088F28E}" type="slidenum">
              <a:t>29</a:t>
            </a:fld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7993080" cy="4249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多种致病因素作用下，凝血因子和血小板被激活，大量促凝物质入血，微循环中广泛微血栓形成，同时或继发纤维蛋白溶解亢进，出现以出血、器官功能障碍、休克和贫血为主要临床表现的病理过程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1916280"/>
            <a:ext cx="2209680" cy="576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213000"/>
            <a:ext cx="6842160" cy="1392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5157720"/>
            <a:ext cx="180036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04640"/>
            <a:ext cx="280800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  概念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AD2E-8C3B-4F3A-A5B0-60AD5D800893}" type="slidenum">
              <a:t>3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250920" y="2421000"/>
            <a:ext cx="9144000" cy="3157560"/>
            <a:chOff x="250920" y="2421000"/>
            <a:chExt cx="9144000" cy="3157560"/>
          </a:xfrm>
        </p:grpSpPr>
        <p:sp>
          <p:nvSpPr>
            <p:cNvPr id="265" name=""/>
            <p:cNvSpPr/>
            <p:nvPr/>
          </p:nvSpPr>
          <p:spPr>
            <a:xfrm>
              <a:off x="250920" y="2421000"/>
              <a:ext cx="914400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血栓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缺氧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酸中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细胞因子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自由基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50920" y="2517480"/>
              <a:ext cx="457200" cy="28368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73800 h 2836800"/>
                <a:gd name="textAreaBottom" fmla="*/ 2763000 h 28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1640" y="38581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38720" y="3474000"/>
              <a:ext cx="339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毛细血管损伤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出血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43640" y="37609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826920" y="1052640"/>
            <a:ext cx="396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4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微血管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85E8-24DF-4A06-BE83-419F6F688D53}" type="slidenum">
              <a:t>30</a:t>
            </a:fld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353440" cy="45356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血栓主要出现在毛细血管、微静脉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各器官表现不尽相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肾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少尿、无尿、血尿及蛋白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胸痛、呼吸困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胃肠道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消化道出血、黄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脑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头痛、抽搐、昏迷、惊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33360"/>
            <a:ext cx="5400360" cy="5508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器官功能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187280" y="1341360"/>
            <a:ext cx="7273800" cy="505440"/>
            <a:chOff x="1187280" y="1341360"/>
            <a:chExt cx="7273800" cy="505440"/>
          </a:xfrm>
        </p:grpSpPr>
        <p:sp>
          <p:nvSpPr>
            <p:cNvPr id="274" name=""/>
            <p:cNvSpPr/>
            <p:nvPr/>
          </p:nvSpPr>
          <p:spPr>
            <a:xfrm>
              <a:off x="1187280" y="1341360"/>
              <a:ext cx="7273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广泛微血栓               组织缺血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52280" y="1449000"/>
              <a:ext cx="1755720" cy="152640"/>
            </a:xfrm>
            <a:prstGeom prst="rightArrow">
              <a:avLst>
                <a:gd name="adj1" fmla="val 50000"/>
                <a:gd name="adj2" fmla="val 287559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7D05-A7CC-4BD2-8D35-66780141CE83}" type="slidenum">
              <a:t>31</a:t>
            </a:fld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未标题-1 复制" descr=""/>
          <p:cNvPicPr/>
          <p:nvPr/>
        </p:nvPicPr>
        <p:blipFill>
          <a:blip r:embed="rId1"/>
          <a:stretch/>
        </p:blipFill>
        <p:spPr>
          <a:xfrm>
            <a:off x="250920" y="0"/>
            <a:ext cx="4787640" cy="4883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-254520" y="4888080"/>
            <a:ext cx="56214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上腺皮质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弗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aterhouse-Friderichsen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3168720" cy="2252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553000" y="4365720"/>
            <a:ext cx="35910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体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席汉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eehan’s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41CF-E6DC-445D-8C92-4813F99EFCC8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83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en-US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和休克常互为因果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形成恶性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引发休克的主要机制※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5640" y="2060640"/>
            <a:ext cx="1008000" cy="304560"/>
          </a:xfrm>
          <a:prstGeom prst="leftRightArrow">
            <a:avLst>
              <a:gd name="adj1" fmla="val 50000"/>
              <a:gd name="adj2" fmla="val 6588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404640"/>
            <a:ext cx="7632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能障碍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---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28F6-99DD-47DD-B3B4-3F33EBE34FE0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720108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心血量减少，循环血量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血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外周血管阻力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激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组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心泵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冠脉系统微血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肌缺血缺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947E-9DA4-4DBF-80C3-C8665EBE5BD2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2268360" y="1341360"/>
            <a:ext cx="5398560" cy="4125600"/>
            <a:chOff x="2268360" y="1341360"/>
            <a:chExt cx="5398560" cy="4125600"/>
          </a:xfrm>
        </p:grpSpPr>
        <p:grpSp>
          <p:nvGrpSpPr>
            <p:cNvPr id="285" name=""/>
            <p:cNvGrpSpPr/>
            <p:nvPr/>
          </p:nvGrpSpPr>
          <p:grpSpPr>
            <a:xfrm>
              <a:off x="2268360" y="1341360"/>
              <a:ext cx="5398560" cy="4125600"/>
              <a:chOff x="2268360" y="1341360"/>
              <a:chExt cx="5398560" cy="4125600"/>
            </a:xfrm>
          </p:grpSpPr>
          <p:sp>
            <p:nvSpPr>
              <p:cNvPr id="286" name=""/>
              <p:cNvSpPr/>
              <p:nvPr/>
            </p:nvSpPr>
            <p:spPr>
              <a:xfrm>
                <a:off x="3135960" y="4519800"/>
                <a:ext cx="3181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  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DIC</a:t>
                </a: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血象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（裂体细胞）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8360" y="1341360"/>
                <a:ext cx="5398560" cy="296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8" name=""/>
            <p:cNvSpPr/>
            <p:nvPr/>
          </p:nvSpPr>
          <p:spPr>
            <a:xfrm flipV="1">
              <a:off x="4293000" y="2500920"/>
              <a:ext cx="385200" cy="211680"/>
            </a:xfrm>
            <a:prstGeom prst="line">
              <a:avLst/>
            </a:prstGeom>
            <a:ln w="63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810600" y="3489480"/>
              <a:ext cx="385560" cy="2116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208920" y="2314080"/>
              <a:ext cx="409320" cy="160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5694120" y="3064680"/>
              <a:ext cx="378360" cy="142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39640" y="404640"/>
            <a:ext cx="309564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四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贫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23280" y="58053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现为进行性贫血，贫血程度与出血量不成比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2F4F-E1D8-4721-AC86-BA49589731C1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50920" y="1484280"/>
            <a:ext cx="8497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微血管病性溶血性贫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纤维蛋白丝的切割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微血流通道受阻，红细胞机械性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某些病因使红细胞脆性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3564000" cy="294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C48-D320-4086-BA9B-DFBD9A72C9F8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ShockwaveFlash1"/>
          <p:cNvGraphicFramePr/>
          <p:nvPr/>
        </p:nvGraphicFramePr>
        <p:xfrm>
          <a:off x="609480" y="380880"/>
          <a:ext cx="82296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29600" cy="5410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76ED-7F16-4424-9F2D-846712A74B35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4191120" cy="5410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590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RBC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悬挂在纤维蛋白索上（扫描电镜，左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20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右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52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1C86-5D26-4CEE-B079-EFC68A3F34E0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556000" y="1538280"/>
            <a:ext cx="48258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高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59280" y="24922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3193920"/>
            <a:ext cx="46800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消耗性低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59280" y="407664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848480"/>
            <a:ext cx="605016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继发性纤溶亢进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333360"/>
            <a:ext cx="388944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六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分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8F8C-CC4E-4915-A1B5-E6D88AFE5730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404640"/>
            <a:ext cx="489744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原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86920" y="3428640"/>
            <a:ext cx="3962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细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病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立克次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其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0600" y="2133720"/>
            <a:ext cx="368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严重感染 （最常见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细菌形态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1656000" cy="1504800"/>
          </a:xfrm>
          <a:prstGeom prst="rect">
            <a:avLst/>
          </a:prstGeom>
          <a:ln w="28440">
            <a:solidFill>
              <a:srgbClr val="04fc2d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88000" y="2924280"/>
            <a:ext cx="1513080" cy="148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200511221643532"/>
          <p:cNvPicPr/>
          <p:nvPr/>
        </p:nvPicPr>
        <p:blipFill>
          <a:blip r:embed="rId3"/>
          <a:stretch/>
        </p:blipFill>
        <p:spPr>
          <a:xfrm>
            <a:off x="4572000" y="4724280"/>
            <a:ext cx="1995480" cy="157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22"/>
          <p:cNvPicPr/>
          <p:nvPr/>
        </p:nvPicPr>
        <p:blipFill>
          <a:blip r:embed="rId4"/>
          <a:stretch/>
        </p:blipFill>
        <p:spPr>
          <a:xfrm>
            <a:off x="6732720" y="4724280"/>
            <a:ext cx="1714320" cy="15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371-7961-48DF-AF17-978B55030EF3}" type="slidenum">
              <a:t>4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442960" y="1484280"/>
            <a:ext cx="552600" cy="132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酶、纤维蛋白大量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激活、黏附、聚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270828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80960" y="24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549360"/>
            <a:ext cx="367200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高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2800" y="2997360"/>
            <a:ext cx="33505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系统尚未启动或刚刚启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4000" y="3933720"/>
            <a:ext cx="8496000" cy="20671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此期进展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各脏器微循环广泛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临床表现以原发疾病表现为主，易漏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1588-AA24-49A3-81DC-CCADE5C35BFC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9280" y="549360"/>
            <a:ext cx="518472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消耗性低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59800" y="2276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、血小板消耗减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23240" y="2997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活性继发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69360" y="4724280"/>
            <a:ext cx="21315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与出血并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36000" y="5516640"/>
            <a:ext cx="583560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进行性减少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100×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200" spc="-1" strike="noStrike" baseline="30000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聚集性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2960" y="3860640"/>
            <a:ext cx="91224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58C5-F1E5-4E1F-8A4F-456790CAF5EC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662840" y="3600360"/>
            <a:ext cx="13158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76000" y="2060640"/>
            <a:ext cx="1459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FXI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3141720"/>
            <a:ext cx="1334880" cy="71280"/>
          </a:xfrm>
          <a:prstGeom prst="rightArrow">
            <a:avLst>
              <a:gd name="adj1" fmla="val 50000"/>
              <a:gd name="adj2" fmla="val 46818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256536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35600" y="29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溶系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280" y="549360"/>
            <a:ext cx="61214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继发性纤溶亢进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77080" y="2852640"/>
            <a:ext cx="11196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t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5013360"/>
            <a:ext cx="50403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明显、广泛的出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1078-AE6F-44B2-80F9-95558D1E2F31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189000"/>
            <a:ext cx="7632720" cy="1130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浆鱼精蛋白副凝试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-----“3P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试验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lasma protamin paracoagulation test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22280" y="1523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40320" y="206064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97480" y="2590920"/>
            <a:ext cx="23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单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9888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64680" y="198900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纤溶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15200" y="2590920"/>
            <a:ext cx="242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3352680"/>
            <a:ext cx="35816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79200" y="3657600"/>
            <a:ext cx="3069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M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可溶性复合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33920" y="4191120"/>
            <a:ext cx="0" cy="5331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96800" y="4221000"/>
            <a:ext cx="91224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鱼精蛋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895120" y="4724280"/>
            <a:ext cx="83844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4724280"/>
            <a:ext cx="68580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22640" y="4952880"/>
            <a:ext cx="5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5560" y="49528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083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自我聚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611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絮状沉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87640" y="5791320"/>
            <a:ext cx="2521080" cy="10688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常：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D72D-AE39-4FFF-9D4B-D03AF526E845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95280" y="907920"/>
            <a:ext cx="6696000" cy="6786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聚体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-dimer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检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476360" y="2205000"/>
            <a:ext cx="6093000" cy="1942920"/>
            <a:chOff x="1476360" y="2205000"/>
            <a:chExt cx="6093000" cy="1942920"/>
          </a:xfrm>
        </p:grpSpPr>
        <p:sp>
          <p:nvSpPr>
            <p:cNvPr id="354" name=""/>
            <p:cNvSpPr/>
            <p:nvPr/>
          </p:nvSpPr>
          <p:spPr>
            <a:xfrm>
              <a:off x="227016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凝血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6360" y="29239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1440" y="2938320"/>
              <a:ext cx="83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6684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1628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0208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5152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7192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纤溶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08280" y="3716280"/>
              <a:ext cx="2160360" cy="431640"/>
            </a:xfrm>
            <a:prstGeom prst="wedgeRectCallout">
              <a:avLst>
                <a:gd name="adj1" fmla="val 53087"/>
                <a:gd name="adj2" fmla="val -1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纤维蛋白多聚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13360" y="292392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-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二聚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619280" y="4797360"/>
            <a:ext cx="5040360" cy="1271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浆正常水平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0.5mg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明显升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6120-C9F0-4EE6-ADDC-9FD7A97C6455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00" y="2205000"/>
            <a:ext cx="8351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61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情迅速恶化，分期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慢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20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体有一定代偿能力，临床表现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亚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19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介于急性型与慢性型之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79120" y="126828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病程进展速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189000"/>
            <a:ext cx="4392360" cy="70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七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的分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91E-C5BD-4E16-A9E0-091A07EDF913}" type="slidenum">
              <a:t>45</a:t>
            </a:fld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与消耗基本持平，轻度出血和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失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耗＞生成，有明显的出血和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过度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＞消耗，出血症状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836640"/>
            <a:ext cx="8280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机体代偿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凝血因子和血小板生成与消耗的比例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CD7-1A15-47BA-A844-D99015369CC3}" type="slidenum">
              <a:t>46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发病部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全身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局部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局部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只是全身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局部表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58920" y="2492280"/>
            <a:ext cx="380880" cy="838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F05A-3A42-40E0-AAD8-5E5CEE77127F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28240" y="836640"/>
            <a:ext cx="89154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去除病因和诱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维持生命体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对症处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早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肝素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血小板聚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潘生丁、阿司匹林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改善微循环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解除血管痉挛、溶栓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后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纤溶药物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6-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氨基己酸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替代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输新鲜血浆、浓缩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或血小板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189000"/>
            <a:ext cx="396108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八  防治原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858F-24C3-4E87-A341-2B8623B39185}" type="slidenum">
              <a:t>48</a:t>
            </a:fld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71640" y="836640"/>
            <a:ext cx="752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复习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名词：弥散性血管内凝血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分期及各期特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患者出血的特点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管病性溶血性贫血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引起休克的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317-65F8-4736-8C7C-DA34BCB1C306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260280"/>
            <a:ext cx="35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恶性肿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330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5013360"/>
            <a:ext cx="73454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肿瘤细胞高表达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急性早幼粒细胞性白血病最常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3567-891F-43F9-8562-C63CA6E17383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9640" y="1052640"/>
            <a:ext cx="813924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病例讨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岁初产妇，足月妊娠分娩，胎儿和胎盘娩出后，阴道仍流血不止。在进行抢救时，初期因针头内凝血影响输液，后来针头部位渗血不止，终因抢救无效而死亡，死后病理解剖诊断为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F5E2-A801-48EF-B4D3-FAFC9F3097D3}" type="slidenum">
              <a:t>50</a:t>
            </a:fld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380880"/>
            <a:ext cx="84582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①  前置胎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②  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③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根据以上简要病史和病解发现，你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虑患者发生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机制如何？为何出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输液凝血，针刺部位渗血和阴道大流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等临床表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B7F6-54D3-43D3-9F30-2A5662685238}" type="slidenum">
              <a:t>51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404640"/>
            <a:ext cx="443700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妇产科疾病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胎盘早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死胎滞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败血症流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剖宫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2000" y="1214280"/>
            <a:ext cx="5472360" cy="401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06EA-EF56-494D-BC78-759FF077C660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620640"/>
            <a:ext cx="3348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组织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创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烧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骨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蛇咬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3280" y="990720"/>
            <a:ext cx="450072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BE94-FF12-4A64-838A-25CBB006AA4C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759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单核巨噬细胞系统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00720" y="1625760"/>
            <a:ext cx="2665440" cy="1803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549360"/>
            <a:ext cx="4895640" cy="642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诱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3429000"/>
            <a:ext cx="8675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全身性施瓦茨曼（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Shwartzman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反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给</a:t>
            </a: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动物两次注射小剂量内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吞噬内毒素，功能被“封闭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清除凝血因子和内毒素功能障碍，易引起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30C3-38FE-4808-8AA6-4A45D6FF3144}" type="slidenum">
              <a:t>8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042560" y="2997000"/>
            <a:ext cx="69138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坏死肝细胞释放大量组织因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血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产生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解毒功能下降，血管内皮受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单核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吞噬细胞系统功能降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651640" y="0"/>
            <a:ext cx="2952720" cy="2135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89440" y="692280"/>
            <a:ext cx="32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肝功能严重障碍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9DDA-655D-4095-B34B-C96AD2EB83DB}" type="slidenum">
              <a:t>9</a:t>
            </a:fld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zg</cp:lastModifiedBy>
  <dcterms:modified xsi:type="dcterms:W3CDTF">2014-04-20T04:47:20Z</dcterms:modified>
  <cp:revision>115</cp:revision>
  <dc:subject/>
  <dc:title>PowerPoint Presentation</dc:title>
</cp:coreProperties>
</file>